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D4A-566A-4471-8E62-9E5EE8BF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729-C693-4995-99D2-4F8D1159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2FB-1B87-47E4-91B5-8D1B3EE3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EC5-9680-43C1-AA13-4DF3A775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7E1-1F56-4B09-8EBA-1DA8A4A5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152-CA60-45AF-B7C1-9726535D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F2A-C3A1-4ECC-89D3-CA93DA0E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F76-AAF8-4ED8-9F85-86ACAE26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ED9-B7B1-40B1-A61C-747829CB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957-EEA6-4F6B-8DA1-A55B2D6A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640-BC77-41E1-AB7D-7F548B07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0D8-BD48-4EDD-B116-FA9F8D2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4749-3704-4633-8F17-B4BE70509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99640" y="404280"/>
            <a:ext cx="777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ванов Серг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ченик нед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В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2-17 апреля 2010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020000" y="407664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4360" y="5013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4745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745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745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745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745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4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тересные факты о Серг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78487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нь рождения Серг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ноя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Сергея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енькая сестри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ю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гей любит игр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гей очень лю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025800" cy="2492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стижения Сергея на это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де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гей получил четы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5» за 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гей побе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кторины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монав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инимал актив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ие в жизни класс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лагал 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есных и полез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344680" cy="36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дравляем Сергея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своением з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еник неде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аем дальнейших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8:43:58Z</dcterms:created>
  <dc:creator>Admin</dc:creator>
  <dc:description/>
  <dc:language>en-US</dc:language>
  <cp:lastModifiedBy>Admin</cp:lastModifiedBy>
  <dcterms:modified xsi:type="dcterms:W3CDTF">2011-10-13T09:11:06Z</dcterms:modified>
  <cp:revision>4</cp:revision>
  <dc:subject/>
  <dc:title>Слайд 1</dc:title>
</cp:coreProperties>
</file>