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9E7A-7103-429D-885F-DA1572ABB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5108-3616-42AA-99BE-3E86E7DC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332D-EFB0-43D8-A5FD-326317102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3729-4AF7-4B22-988C-E976D4372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757F-622C-464B-80B4-04123494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50BD-BE47-44F4-A0D3-2BA85EA7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B7C8-7787-4B5A-AEC1-FE5D5BDF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EF62-757A-4ADC-84CB-379BFFA9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9EBF-6118-4B26-BBB3-31D45329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3EE0-ED58-44E3-8D66-0531D184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F9BB-A9ED-4FEF-8EA5-ED6BC27A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F175-30B3-4605-89E6-018E2967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919C-2C2E-4156-B32B-1AB8191C3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ELPHRG01.wav" TargetMode="External"/><Relationship Id="rId2" Type="http://schemas.microsoft.com/office/2007/relationships/media" Target="file:///tmp/home/.config/libreoffice/4/user/gallery/ELPHRG01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549360"/>
            <a:ext cx="8136000" cy="568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лянская средняя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бщеобразовательная шк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619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ванова Мария Ива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А класс, кабинет 2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нтябрь 2009 - Июнь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9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992"/>
                            </p:stCondLst>
                            <p:childTnLst>
                              <p:par>
                                <p:cTn id="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492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992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492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бота с тек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бота с графи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здание презент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292720" y="1844640"/>
            <a:ext cx="3564000" cy="3270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Естествозн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года и клим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е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лнеч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косм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5076720" y="1916280"/>
            <a:ext cx="2859120" cy="2722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лгеб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еомет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ртежи и граф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5508720" y="1557360"/>
            <a:ext cx="2106360" cy="345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о очень интересный и важ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атериал для изучения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надеюсь на интересную работу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ждым из Вас в этом учебном г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07:53:46Z</dcterms:created>
  <dc:creator>Admin</dc:creator>
  <dc:description/>
  <dc:language>en-US</dc:language>
  <cp:lastModifiedBy>Admin</cp:lastModifiedBy>
  <dcterms:modified xsi:type="dcterms:W3CDTF">2011-10-13T08:42:32Z</dcterms:modified>
  <cp:revision>3</cp:revision>
  <dc:subject/>
  <dc:title>Полянская средняя Общеобразовательная школа</dc:title>
</cp:coreProperties>
</file>